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D260F-6522-424A-9AB8-CEBBA152BF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0AAF7-B986-4C27-AF50-3FDFD1808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69D28-A5E1-469D-BAB1-7C69926B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CBDAF-33E4-4027-B319-8203A37DFF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ADA3A-80D8-4892-A0A7-E753C1E27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18A46-B8F4-4345-A111-237ABDE97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A9393-B57E-4641-B3AF-B8E45D9D4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FDE67-6925-4FA3-8056-01EE4631F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DD01D-6A02-4927-9B24-9F9021677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ABB3D-66C3-44E5-8EDF-F57576AF4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DF300-BC0A-4593-A3BB-127F7BD2F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6C6EF-6D8A-4D3A-9A9D-4D052EB41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9B9952B6-985C-4612-B406-1C66F0021863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4952880"/>
            <a:ext cx="451980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bind9.html" TargetMode="External"/><Relationship Id="rId2" Type="http://schemas.openxmlformats.org/officeDocument/2006/relationships/hyperlink" Target="http://www.isc.org/products/BIND/bind9-beta.html" TargetMode="External"/><Relationship Id="rId3" Type="http://schemas.openxmlformats.org/officeDocument/2006/relationships/hyperlink" Target="ftp://ftp.isc.org/" TargetMode="External"/><Relationship Id="rId4" Type="http://schemas.openxmlformats.org/officeDocument/2006/relationships/hyperlink" Target="http://www.isc.org/services/public/lists/bind-lists.html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999720"/>
            <a:ext cx="624816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stalling BIND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d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/configu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udo make instal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B1A83-EC29-4BEA-B2A5-427F360D805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ppe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xecutab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s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nssec-keygen, dnssec-makekeyset, dnssec-signkey, dnssec-sign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lwresd, named-checkconf, named-check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ndc, rndc-confge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amed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i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host, isc-config.sh, nslookup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supdat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d libraries "happen"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05A95-EC23-4787-83D0-363CB46B698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right version is now install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v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23479-9533-4F59-A91B-E4EF02E46E1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4A25F-0BB8-4D9A-B04A-69E9482CE49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9 Mailing Lis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oining mail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services/public/lists/bind-lists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9-users, bind-annou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bind-users is for bind8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rchi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ml-archives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00F28-269C-47A5-BDED-AC21C8C753F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92063-C751-4F60-BB80-C922793150A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trieving 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net Software Consortiu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packages we'll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ABDC6-FA03-441D-9559-3ABB08DA80E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net Software Consortium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urce for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Software: DHCP, NN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der Development: OpenReg (EPP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8AE73-C49B-4564-B5DC-250EE971A9E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n use, available, obsolet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on't start to use i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igrate to Version 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(Okay, BIND 8 is faster than BIND 9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9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urrent vers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 Candidate (Bet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napshots (Alph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ever Use Snapshots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33C4E-A72A-4D06-85EF-1580CA205B2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BIND 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/products/BIND/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http://www.isc.org/products/BIND/bind9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http://www.isc.org/products/BIND/bind9-beta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2.rc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ftp.isc.org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 - anonymou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hange Directory to /isc/bind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2rc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tp://ftp.isc.org/isc/bind9/9.2.2rc1/bind-9.2.2rc1.tar.gz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1DC9B-A13D-43E8-AB92-B72309148F7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Packag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SS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ill be needed for DNSSE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et's wait on that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09DE6-F02E-46CF-A1EE-A8B91186827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68AFE-0E83-4ADA-8D14-CD6B847F220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npack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ar -xzf bind-9.2.2rc1.tar.gz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compresses and creates direct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-9.2.2rc1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's in ther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lot of stu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configure (scri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doc/arm/Bv9ARM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's Reference Manu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ood source!!!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47B21-D7AB-434D-92C1-B6A84C0DE05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01:37:02Z</dcterms:created>
  <dc:creator>ARIN Net</dc:creator>
  <dc:description/>
  <dc:language>en-US</dc:language>
  <cp:lastModifiedBy>Marmaduke Wildebeeste</cp:lastModifiedBy>
  <cp:lastPrinted>2009-04-22T19:24:48Z</cp:lastPrinted>
  <dcterms:modified xsi:type="dcterms:W3CDTF">2003-06-01T20:46:17Z</dcterms:modified>
  <cp:revision>11</cp:revision>
  <dc:subject/>
  <dc:title>Getting and Installing BIND</dc:title>
</cp:coreProperties>
</file>